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9A1F-8DAA-443F-B92E-D1C5327F8B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"Вост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славян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древност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6ADC-9D46-4BAB-AC11-83358515CB8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4.Происхождение Ру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8ED-0AB4-4A77-A0E2-189056A910D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2.Расселение славянских пле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3.Язычество древни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4.Происхождение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A11D-BC45-462B-A59E-4504B83397C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Задание на у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пытайтесь выяснить, чем славяне отличались от других народов Евро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9617-47F0-4F9D-82A5-27ACBF6B9E3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11C-BBF2-4684-AE3A-61D5B2B623C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пределите, как на-зывались племена восточных славян, и где они ж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6393-581E-4FDC-9F3F-8906A1C53B9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Большинство славян жили в лесах, но поляне обитали в лесостепной пол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Опишите их быт? Чем они занима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0188-6F4F-4BC2-B792-F31C52BB7A7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Язычество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это не религия, а мировоззрение.Славя-не пытались объяснить то ,что видели вокр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Почему появилась вера в бог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D439-E5FE-414D-9348-90085333C91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E600-FE31-4CC8-9044-1737D03916C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аряду с богами славяне верили в «низших дух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Те в свою очередь делились на полезных и опасных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Определите, кто изображен на слайдах и к какой группе духов относятся эти су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-Домовой,леший,водяной,волкол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Каких еще славянских духов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1BD8-9194-4A09-9F87-846E46086AC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2189-E2AD-497D-A67C-8FDACDCA6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9DBF-86E8-469D-B93F-CEDE2F94D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D07B-08B7-4ABF-8A95-8CDF94E6E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C499-DF1E-48AF-94A1-A2503A24D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109AE-94AB-48FA-8BED-A12A77C0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421D7-4AFA-4C1C-9E94-045445A0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A6BC-875A-4D70-9392-EE541A09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4B246-B572-41FD-ADD6-B898B9D0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E8917-41BB-40DD-8521-9C990C2D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0389D-0C25-4E22-A662-1BFB3103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6F1F4-025A-41CC-8E83-AD52D03C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3252-7D4D-4D11-BDF3-1F16E5444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E12E7-7894-46DD-81A8-87B4370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9F49-1DE8-4EEF-B723-601F34F9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5C423-44E0-493B-B330-2782807B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9A0D1-2658-4D65-904D-B33666E4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689FB-27B5-45E3-A3C9-3258120B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30FC-85CF-4AD2-A5BB-32E452661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24C2-FFCD-4DEB-BA11-B52DB5594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2D2A-8BE5-40FD-96E3-A4F717668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9A38-4611-418C-B63A-7D8A3AC24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FB5F-BD18-455A-B9F0-E2011BEBC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A36E-971A-48B3-9103-5DBB01CB5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29C2-4CC2-43BD-9B78-D05CAE023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4464-D685-4BA1-981F-5A3F7D8469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B652-C04D-4BD7-92AA-D3E57D94FBAE}" type="datetime">
              <a:rPr b="0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3A2C-F919-4BD2-A0A2-D039BC8C5030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591B-D147-4B8A-A0A4-7BE2F6864F74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4" name="WordArt 6" descr="Дуб"/>
          <p:cNvPicPr/>
          <p:nvPr/>
        </p:nvPicPr>
        <p:blipFill>
          <a:blip r:embed="rId1"/>
          <a:stretch/>
        </p:blipFill>
        <p:spPr>
          <a:xfrm>
            <a:off x="1579680" y="2724120"/>
            <a:ext cx="6973920" cy="392580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7" descr=""/>
          <p:cNvPicPr/>
          <p:nvPr/>
        </p:nvPicPr>
        <p:blipFill>
          <a:blip r:embed="rId2"/>
          <a:stretch/>
        </p:blipFill>
        <p:spPr>
          <a:xfrm>
            <a:off x="2193840" y="712800"/>
            <a:ext cx="5962680" cy="10191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7631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.Происхождение Рус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2361960"/>
            <a:ext cx="7240320" cy="380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.Происхождение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.Расселение славянских племе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.Язычество древних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.Происхождение Рус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2362320"/>
            <a:ext cx="724032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пытайтесь выяснить, чем славяне отличались от других народов Европы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6" descr="Рисунок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Происхождение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7880" y="4130640"/>
            <a:ext cx="5671800" cy="82548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Определите по карте прародину славя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 родственные им народы?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88360" y="838080"/>
            <a:ext cx="104328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л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7240" y="1557360"/>
            <a:ext cx="1572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германц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8520" y="879480"/>
            <a:ext cx="1878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андинав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58040" y="1523880"/>
            <a:ext cx="12110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кель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1120" y="3048120"/>
            <a:ext cx="9716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с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37200" y="2743200"/>
            <a:ext cx="13543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тали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97200" y="2209680"/>
            <a:ext cx="11149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иф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128120" y="1523880"/>
            <a:ext cx="127944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лавян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071480" y="3789360"/>
            <a:ext cx="1674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ндо-ари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267600" y="2860560"/>
            <a:ext cx="10342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перс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24280" y="838080"/>
            <a:ext cx="4267440" cy="5943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Определите, как на-зывались племена восточных славян, и где они жили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9" name="Picture 8" descr="Рисунок8"/>
          <p:cNvPicPr/>
          <p:nvPr/>
        </p:nvPicPr>
        <p:blipFill>
          <a:blip r:embed="rId1"/>
          <a:stretch/>
        </p:blipFill>
        <p:spPr>
          <a:xfrm>
            <a:off x="46080" y="836640"/>
            <a:ext cx="4670280" cy="5977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320" y="5105160"/>
            <a:ext cx="8991360" cy="1600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ольшинство славян жили в лесах, но поляне обитали в лесостепной полос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-Опишите их быт? Чем они занимались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3" name="Picture 8" descr="Рисунок7"/>
          <p:cNvPicPr/>
          <p:nvPr/>
        </p:nvPicPr>
        <p:blipFill>
          <a:blip r:embed="rId1"/>
          <a:stretch/>
        </p:blipFill>
        <p:spPr>
          <a:xfrm>
            <a:off x="1906560" y="73980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9" descr="Рисунок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0600" y="873000"/>
            <a:ext cx="4451400" cy="5220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1640" y="609120"/>
            <a:ext cx="44197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зычество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это не религия, а мировоззрение.Славя-не пытались объяснить то ,что видели вокру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-Почему появилась вера в богов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980720" y="981000"/>
            <a:ext cx="98856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еру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320280" y="6051600"/>
            <a:ext cx="128700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мокошь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3962520" y="5552640"/>
            <a:ext cx="304560" cy="38124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955600" y="5692680"/>
            <a:ext cx="92304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велес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24200" y="5235480"/>
            <a:ext cx="125352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триб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241800" y="2492280"/>
            <a:ext cx="10936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вар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4648320"/>
            <a:ext cx="8991360" cy="2133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7" name="Picture 5" descr="Рисунок5"/>
          <p:cNvPicPr/>
          <p:nvPr/>
        </p:nvPicPr>
        <p:blipFill>
          <a:blip r:embed="rId1"/>
          <a:stretch/>
        </p:blipFill>
        <p:spPr>
          <a:xfrm>
            <a:off x="1763640" y="692280"/>
            <a:ext cx="583272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4191120"/>
            <a:ext cx="8991360" cy="2590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ряду с богами славяне верили в «низших духов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 в свою очередь делились на полезных и опасных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Определите, кто изображен на слайдах и к какой группе духов относятся эти существа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Домовой,леший,водяной,волкола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Каких еще славянских духов вы знаете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1" name="Picture 9" descr="Рисунок4"/>
          <p:cNvPicPr/>
          <p:nvPr/>
        </p:nvPicPr>
        <p:blipFill>
          <a:blip r:embed="rId1"/>
          <a:stretch/>
        </p:blipFill>
        <p:spPr>
          <a:xfrm>
            <a:off x="179280" y="812880"/>
            <a:ext cx="1778040" cy="333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3"/>
          <p:cNvPicPr/>
          <p:nvPr/>
        </p:nvPicPr>
        <p:blipFill>
          <a:blip r:embed="rId2"/>
          <a:stretch/>
        </p:blipFill>
        <p:spPr>
          <a:xfrm>
            <a:off x="2001960" y="812880"/>
            <a:ext cx="2187360" cy="331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Рисунок2"/>
          <p:cNvPicPr/>
          <p:nvPr/>
        </p:nvPicPr>
        <p:blipFill>
          <a:blip r:embed="rId3"/>
          <a:stretch/>
        </p:blipFill>
        <p:spPr>
          <a:xfrm>
            <a:off x="4233960" y="812880"/>
            <a:ext cx="2176200" cy="331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Рисунок1"/>
          <p:cNvPicPr/>
          <p:nvPr/>
        </p:nvPicPr>
        <p:blipFill>
          <a:blip r:embed="rId4"/>
          <a:stretch/>
        </p:blipFill>
        <p:spPr>
          <a:xfrm>
            <a:off x="6454800" y="812880"/>
            <a:ext cx="2509920" cy="33177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5:06Z</dcterms:modified>
  <cp:revision>18</cp:revision>
  <dc:subject/>
  <dc:title>Заголовок слайда отсутствует</dc:title>
</cp:coreProperties>
</file>